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0F28-3270-46E7-ACC4-DE5B805A27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34C-CA7E-4F79-9E29-52770C0D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4E3-37CA-4AB1-A571-836DC642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A5D-5EF3-4621-83C9-DD7AB480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A86-E077-4C70-8F17-2145F626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32FF-1310-4D3A-AC2B-634A7DAE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F188-FE48-40F9-A5DC-882E553B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8FAE-7BD7-4477-926F-A714F6EE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61BA-6D20-40B2-84D8-46B2C263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65F9-7FD3-44D0-BF92-206F059D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D79F-2956-4B74-9C84-84362BE7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F263-4088-4947-ABE6-F502D07D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AF8-7409-4263-B2B1-18C73254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86F4-0CF6-4C0E-83E6-D51AB1AE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7D89-60CD-4507-A554-03B9778D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D497-DB79-4A4D-886B-5B524B59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F5BB-44C2-4132-BD16-BFCD8C9E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C3E0-01A4-4C05-A53E-77A5F5A6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C5C3-7322-4EB3-ABE1-AC3B671A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ECFB-6B2E-492F-AB4B-45815820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B4B8-7793-4C2A-9021-A5E0CE23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D573-CCB6-4839-8CC8-277B5A1E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E9E6-BBDC-42DE-8F3A-D971C240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6BC-1B81-48C8-8DF4-A9A87E48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02BA-792E-493F-8108-352137D2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AAE7-F2CA-4A39-985D-0F565F64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9992-94B4-4147-A2ED-81A1AC96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4A38-BC10-4778-B0A1-7A21A68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FF23E-F8E5-4286-998E-301D1BFC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734F-2566-4190-881D-53EF2113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C29C-B731-433B-93B2-733328AF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4CBD6-DCC0-4404-8EDB-43B91389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7B1D-AA68-4605-A0F9-53E56D1B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411C-EFAC-496C-A96F-07537D0A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6BD-5802-436D-927D-87910980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F67C9-C2E2-462B-A60D-694C4DBA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1E854-1064-4FFF-AB94-3D7EA14A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6264F-CD36-4A4C-8EE5-64D3B907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1C66-49C2-4006-BE60-C2AB8D15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3360D-817C-46D9-8B66-B296445D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09433-603F-4C78-A01D-1EBDCB2A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D406-6B36-4E15-8524-EA09C4A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593EF-C707-4D40-B88F-AA75C1FB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07136-DB9F-4972-87C1-E8E03F58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8F079-9CC7-43ED-8ED8-9B56A4D3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E44-7D8E-4DAE-9E70-F6970E92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20B58-E83B-40EB-B5F6-89E196D3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EB92-7DD5-4ED1-8BD4-B2E63ABE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10AEF-66A6-49C8-9CD4-01F90BF8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87B18-8EA5-41CE-8B9D-2F272706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9B809-EF47-4B6B-92A1-33B59B7D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B1477-1803-4FDF-AC58-1CC073E7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2D3C-C46B-41D0-9C9F-2CDBF160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CC7BE-4A0C-4083-9E1B-6BD6E2BB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0DB1A-9821-465A-8075-83508395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93850-080C-442D-AA79-6A5F9F13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C01-2423-440F-AA76-6FB565EB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B9798-3BBA-4365-BDDE-2A6C02B2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4F9D3-8305-42FD-B7FC-952F00BE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7E451-D13F-47B5-8DFF-40326621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89EB6-8567-45F5-95F7-150E2280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A955B-4F61-4491-A627-A4F58E45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621B1-1025-4280-81B7-BE198A32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6AB3C-1B23-4FCB-AD39-D8BB50AA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20E20-B7E0-4288-BD39-DCE2C45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1713-2E18-4073-942F-4C338F2E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CF276-4B79-44A9-8790-05A79C27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A2E-5416-41AB-A8A1-39841B76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1F097-1B9F-483D-8D82-06ACD562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7336E-7822-4315-9E9E-F09DB830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BE665-FF21-4142-93A8-21D56864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F2DBD-CE5E-4533-A697-ECBC3516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42483-DDE1-4682-837A-549F742D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0D63F-BF3C-4B59-9DD4-855DA0A2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D181F-5914-440E-A1D8-C9547634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68EC-A806-489E-96A2-AB4B8A50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F4C2C-E638-4184-9486-6E04E4A0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2AD49-7D1D-402B-801A-A2AFD97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493-93B6-4E23-9C87-B1A3EAAC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1F4F7-6DF4-4510-B2BB-D046AFAB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472E2-805E-4497-964B-DDE75D70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DAAA3-AB38-466E-BD90-EBFB4D37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7E3EC-D05D-4916-862A-32046322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5D12A-E04F-40F9-9D2C-C1CC5815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353-07A9-4C78-B85C-42B22C2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BFAC-E30B-46A1-8970-B87600081925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F6D-B6AF-4918-A800-14ABA2716E19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8F8D-4399-4B47-B1AF-8BC435B8688E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A302-1940-4B14-9C65-38B4FEB2D17D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8488-9EAD-4E85-9A39-857D90358144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3D1F-78E2-4DFC-BE48-1B55F194269C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085C-3B4F-405E-BE18-0DA001D0D061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0600-2C7B-4721-ADDA-A0492188F066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3A81-80A9-4EE4-B329-3E78B54E90BA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C59B-A3CB-4821-BB29-0F0880449DD1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BF03-FCC5-46F5-90FD-08042BB439F6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7C99-257A-4616-9514-32C84285D6EB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6D3C-CCCF-4661-B7A1-DEEA55217F1B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E7F4-C2D5-47A8-B617-C630DBA81AB4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ПРОФИЛАКТИКА СЕРДЕЧНО-СОСУДИСТЫХ ЗАБОЛЕВАНИЙ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840" y="400536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ЧИНЫ РАЗВИТИЯ ИБ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789120" y="2349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Чаще всего причиной развития ИБС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з коронарных артери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, при котором происходит постепенное сужение просвета сосуда вследствие жировых (холестериновых) отложений в его стенке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тических бляше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635280" y="4508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озникновению заболевания способствуют множество причин, но особое место занимаю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акторы риска,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язанные с привычками и образом жизни. Если они будут вовремя предотвращены, то болезнь может и не раз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256536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ное АД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ур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иподинам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сихоэмоциональное перенапряжение (острые тяжелые или длительные стрессы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НЫЕ ФАКТОРЫ РИСКА РАЗВИТИЯ АТЕРОСКЛЕРО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988640"/>
            <a:ext cx="8056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Основные цели лечения стенокардии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устранение боли, профилактика приступов и прогрессирования заболевани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мимо лекарственных антиангиальных средств лечение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обязательно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должно включать меры по устранению негативного влияния факторов риска ИБС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Также в настоящее время активно примен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хирургические и интервенционные методы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осстановления кровоснабжения миокард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ЛЕЧЕНИЕ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79280" y="1628640"/>
          <a:ext cx="8785440" cy="5135760"/>
        </p:xfrm>
        <a:graphic>
          <a:graphicData uri="http://schemas.openxmlformats.org/drawingml/2006/table">
            <a:tbl>
              <a:tblPr/>
              <a:tblGrid>
                <a:gridCol w="360072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ЕПА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цетилсалицилов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упреждает образование тромбов в коронарных сосу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а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ормализуют уровень липидов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22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адреноблокаторы (при противопоказаниях или непереносимости применяю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гиб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медляют частоту пульса, уменьшают работу сердца, снижают частоту приступов стенокар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лабляют нагрузку на 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нтагонисты кальция и 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сширяют артерии, в т. ч. коронарные, снижают повышенное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гибиторы АП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нижают АД, замедляют развитие изменений в сосудах и сердце и тяжелых осложнений И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опроте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щищают клетки миокарда от недостатка кислорода (ишемии) в момент приступа, не оказывают влияния на ЧСС и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338040"/>
            <a:ext cx="86421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ЕПАРАТЫ ДЛЯ ПРЕДУПРЕЖДЕНИЯ ПРИСТУПОВ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73520" cy="4451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979880" y="2565360"/>
            <a:ext cx="403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НГИОПЛАСТИКА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40080" cy="3816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79280" y="2809800"/>
            <a:ext cx="511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ОРТОКОРОНАРНОЕ ШУНТИРОВАНИЕ (АКШ)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61720" y="1709640"/>
            <a:ext cx="88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а дозированная ходьба, пульс при этом необходимо контролировать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овень допустимых нагрузок определяется границами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зоны безопасного пульс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торая индивидуальна и определяется врачом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ледует избегать изометрических усилий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БОЧИЕ НАГРУЗ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отказаться от кур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2266920" y="4175280"/>
            <a:ext cx="4756320" cy="253044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1412640"/>
            <a:ext cx="7408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билизируется или нормализуется уровень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ежается пуль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меньшается утренний кашель, одышка, слабость и утомляем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величивается работоспособ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станавливается способность чувствовать запах и вку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цвет лица, состояние кож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памя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2349360"/>
            <a:ext cx="740916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жегодный отпуск необходим для укрепления и восстановления здоровь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согласование с врачом выбора места отдых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дыхать желательно в той климатической зоне, в которой больной проживает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ТДЫХ И ДОСУ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489120" cy="324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Ы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510000" y="2349360"/>
            <a:ext cx="56163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ndara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это конусообразный полый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ышечно-фиброз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ой системы. Располагается в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рудной клетке загрудинно. 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ивает ток крови по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ым  сосудам. Работа сердц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исывается механическими явлениями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(всасывание и выталкивание). Обладает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втомат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309600" y="569736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хема расположения коронарных артерий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Режим дня соблюдать, спать ложиться в одно и то же время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должительность сна 7-8 часо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льзя заниматься физической или умственной работой непосредственно перед сном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смотр эмоциональных передач необходимо прекращать за 1,5-2 часа до сна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Желательно совершать перед сном прогулки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Объект 3" descr=""/>
          <p:cNvPicPr/>
          <p:nvPr/>
        </p:nvPicPr>
        <p:blipFill>
          <a:blip r:embed="rId1"/>
          <a:stretch/>
        </p:blipFill>
        <p:spPr>
          <a:xfrm>
            <a:off x="4498920" y="2419200"/>
            <a:ext cx="4821120" cy="4176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79280" y="1844640"/>
            <a:ext cx="64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ища должна быть разнообраз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бязателен режим 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ольным ИБС необходимо ограни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ли исключить из рациона продукты, богатые холестерином и насыщенными жи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Если повышается АД, необход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граничить употребление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соли –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не бол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5 г в сутки (1 чайная ложка без верха)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лкогольные напитки даже в ма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зах можно употреблять только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огласованию с врач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360" y="1412640"/>
            <a:ext cx="7991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ограничить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убпродукты (печень, почки, мозги, икр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Яичный желток (не более 1 в недел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говядину, баранину, свинин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птицу (гусь, утка, куриц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вотные жиры в чистом вид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альмовое и кокосовое мас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ые молочные продукты (сливки, кефир, сыры и т.д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айонез и соусы на его основ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ладости с высоким содержанием жир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Алког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341360"/>
            <a:ext cx="7408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Добавить в рацион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Овощи, фрукты, ягоды, зеленый салат и лук, петрушку, укроп, шпинат, сельдерей, чесн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Постное мясо и птицу (желательно белое мясо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Яичный бел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Растительные мас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рскую рыбу и морепродукты (НО НЕ креветк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ягкие маргарины (не более столовой ложки в день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лочные продукты с пониженным содержанием жира (0,5%-1%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Каши из круп, отруби, хлеб из муки грубого помо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Грецкие орехи (под контролем калорийност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Бобовые, сою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Зеленый чай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24000" y="2133360"/>
            <a:ext cx="86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бщий холестерин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7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 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5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низкой плотности (ЛПНП), повыш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0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2,6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высокой плотности (ЛПВП), сниж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4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1,0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риглицериды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5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,7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УРОВНИ ЖИРОВ КРОВ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8920" y="2060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ля точной оценки степени избыточной массы тела использу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индекс массы тела (индекс Кетле)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Т (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) = вес (кг) : рост (м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ЕС ТЕ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2268360" y="2924280"/>
            <a:ext cx="4607280" cy="43344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8360" y="3645000"/>
          <a:ext cx="8064360" cy="259560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95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декс Кетле (кг/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ск ССЗ и диаб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фицит массы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18,5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уме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нормаль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быточ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,0 – 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,0 – 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резвычайно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3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неблагоприятным для больных ИБС и артериальной гипертоние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ерхний (висцеральный) тип ожирени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гда жир накапливается в области груди и живота (мужской тип ожирения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иск такого ожирения определяется по измерению окружности тали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ИП ОЖИР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4869000"/>
          <a:ext cx="8642160" cy="1523880"/>
        </p:xfrm>
        <a:graphic>
          <a:graphicData uri="http://schemas.openxmlformats.org/drawingml/2006/table">
            <a:tbl>
              <a:tblPr/>
              <a:tblGrid>
                <a:gridCol w="4398840"/>
                <a:gridCol w="4243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мужч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94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102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женщ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80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– 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8 – 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умеренной физической активности =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7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2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АЛОРИЙ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835280" y="3573360"/>
            <a:ext cx="5473440" cy="43200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835280" y="5373720"/>
            <a:ext cx="5473440" cy="50328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ъект 3" descr=""/>
          <p:cNvPicPr/>
          <p:nvPr/>
        </p:nvPicPr>
        <p:blipFill>
          <a:blip r:embed="rId1"/>
          <a:stretch/>
        </p:blipFill>
        <p:spPr>
          <a:xfrm>
            <a:off x="5870520" y="285264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СИХОЭМОЦИОНАЛЬНОЕ НАПРЯЖЕНИ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08000" y="2060640"/>
            <a:ext cx="590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енно опасны для больных тяжелые и длительные стрессы (дистре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либо устранять факторы-стрессоры, либо учиться изменять к ним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ороший эффект оказывают занятие любимым делом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276640"/>
            <a:ext cx="8642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Заболевание сердца (болезни сердца) 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лассификация по МКБ-10 – разделы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I00 – I52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БОЛЕВАНИЯ СЕРДЦ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00000" y="2491920"/>
            <a:ext cx="7407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арушения ритма и проводимост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спалительные заболевания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апанные порок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ртериальные гипертензи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шемические пораж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ражение сосудов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атологические измен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ЛАССИФИКАЦИЯ ВИДОВ ЗАБОЛЕВАНИЙ СЕРДЦ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2320" y="1773360"/>
            <a:ext cx="56023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болевания сердца различны, наиболее распространенное и серьёзное из них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ишемическая болезнь сердца (ИБС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снове ИБС лежит сужение или закупорка коронарных артерий, питающих сердц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аще всего ИБС проявляется болевым приступом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енокардие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 затянувшемся приступе стенокардии или чрезмерной нагруз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ожет развиться инфаркт миокард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ШЕМИЧЕСКАЯ БОЛЕЗНЬ СЕРДЦА (ИБС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894120" cy="3527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5508720" y="59324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кклюзия (закупорка) коронарной артерии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234900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изические нагрузки (быстрая ходьба, подъем по лестнице, перенос тяжестей и др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моциональный стрес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соблюдение рекомендаций врач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кая смена метеорологических условий (холод, ветер, влажность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ие артериального давл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резмерное потребление пищ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ем большой дозы алкогол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ексуальная актив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АКТОРЫ, ПРОВОЦИРУЮЩИЕ ПРИСТУП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00000" y="2421000"/>
            <a:ext cx="7407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одолжительность приступа 3-5 мин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ЗНАКИ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34920" y="5661000"/>
            <a:ext cx="910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обходимо запоминать характер, длительность болей, реакцию на прием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итроглицерина во время приступа. Это необходимо для того, чтобы отличить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стабильное течение болезни с постоянной частотой приступов от перехода его в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стабильное состояние и особенно от инфаркта миока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0" y="5819760"/>
            <a:ext cx="10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N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7928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екратить физическую нагрузку, при возможности сесть, успокоитьс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нять одну таблетку нитроглицерина под язык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 подъеме АД разжевать одну таблетку нифедепина или катоприл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ЕРВАЯ ПОМОЩЬ ПРИ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560" y="1773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пасные призна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становятся интенсивнее, продолжаются 20-30 мин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лнообразно повторяются в состоянии поко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зникает резкая слабость и чувство страх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ается пульс и резко колеблется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ГРЕССИРУЮЩАЯ (НЕСТАБИЛЬНАЯ) СТЕНОКАРД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19:08Z</dcterms:created>
  <dc:creator>MashutiK</dc:creator>
  <dc:description/>
  <dc:language>en-US</dc:language>
  <cp:lastModifiedBy>LEGION</cp:lastModifiedBy>
  <dcterms:modified xsi:type="dcterms:W3CDTF">2015-11-27T12:50:49Z</dcterms:modified>
  <cp:revision>54</cp:revision>
  <dc:subject/>
  <dc:title>ПРОФИЛАКТИКА СЕРДЕЧНО-СОСУДИСТЫХ ЗАБОЛЕВАНИЙ</dc:title>
</cp:coreProperties>
</file>